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417-E1CA-4D5F-A1F3-E871F54D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FEA-C03C-4928-9E1B-5267E61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27E-FF70-44B0-8809-7ABEC7FE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429-6CEE-4737-8C88-4397F0BD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1CB-D25C-4F37-964E-B919FCF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81D-59C6-44C7-9658-4948C0E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0CB-F8B7-4085-B7CC-7EB3375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2DD-D820-46B3-9B55-BA76302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8C8-D657-4EFC-8E28-EF6832BA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7C8-5CF0-453D-A46D-EEA76BC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249-33E3-463D-9D54-44167AD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970-2ADC-469F-97D1-E133773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D4D-9AD7-47D2-8414-A78E4B75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eb.mit.edu/invent/iow/perkins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cc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25780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yn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90720"/>
            <a:ext cx="64771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70e47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ol-A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70e47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erkins"/>
          <p:cNvPicPr/>
          <p:nvPr/>
        </p:nvPicPr>
        <p:blipFill>
          <a:blip r:embed="rId1"/>
          <a:srcRect l="0" t="0" r="37879" b="1736"/>
          <a:stretch/>
        </p:blipFill>
        <p:spPr>
          <a:xfrm>
            <a:off x="0" y="0"/>
            <a:ext cx="4952880" cy="241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Perkins"/>
          <p:cNvPicPr/>
          <p:nvPr/>
        </p:nvPicPr>
        <p:blipFill>
          <a:blip r:embed="rId2"/>
          <a:srcRect l="62646" t="-10453" r="0" b="0"/>
          <a:stretch/>
        </p:blipFill>
        <p:spPr>
          <a:xfrm>
            <a:off x="5257800" y="3314880"/>
            <a:ext cx="388620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0800000">
            <a:off x="228240" y="426672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26708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k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-28-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Kool-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l-Aid used to be spelled Kool Ade later then it got changed to Kool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iginal flavors were strawberry, cherry, lemon-lime, grape, orange, and Raspb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1 Kool-Aid was a popular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ool-Aid packets were 10 cents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ol-Aid was a successful business and stil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e473"/>
            </a:gs>
            <a:gs pos="50000">
              <a:srgbClr val="009999"/>
            </a:gs>
            <a:gs pos="100000">
              <a:srgbClr val="70e4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was born in Nebras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rried his childhood lover Kitty and continued on with his Kool-Ai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oved to Chicago to start his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1 Perkins dropped his other businesses and concentrated more on Kool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rged with Kraft in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5:50Z</dcterms:created>
  <dc:creator>install</dc:creator>
  <dc:description/>
  <dc:language>en-US</dc:language>
  <cp:lastModifiedBy>install</cp:lastModifiedBy>
  <dcterms:modified xsi:type="dcterms:W3CDTF">2011-03-11T18:31:55Z</dcterms:modified>
  <cp:revision>12</cp:revision>
  <dc:subject/>
  <dc:title>Slide 1</dc:title>
</cp:coreProperties>
</file>